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7D08-0DA7-46F3-9638-CFCE7E97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F3D8-920D-4E6B-BD57-2B19C658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E12D-D816-4F21-829F-04DA05CD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70D9-1B76-4ED7-A1B6-EDE89B99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83CC-E205-4ECA-B533-185B7A30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4E6D-054A-499A-A429-FB1831A7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AEB4-76E6-46F0-BE8B-E9E3C543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D7AF-3F93-4B71-8C2B-AD6ABEDA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0844-695C-4B09-BAE1-7E9D5ED4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2942-0513-4188-9451-D5555C28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D2EB-ABEC-47F1-83C4-386BA0A6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A8E5-1124-48F7-828C-39811E80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E767-079C-406A-90C5-6B87BA83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AACC-7199-43AA-8BA7-5F7BA34B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2173-E242-40C2-A392-DCA1097A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9E5B-FC34-429A-B2FE-CC39B31D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3A45-129C-411D-9938-9ACFF384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CBA0-D26B-45D3-BD1C-BC75A9D6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B54F-3DF2-433C-8299-69CC52B6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B6F0-BE8E-4899-B9DC-1C5535DF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626A-8795-4037-93BB-C0B80C2B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D18E-F2D1-4EC7-ADE8-1E2AF17E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BD6-F169-4508-B83C-479E2EFD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CB5-3458-4F10-AD40-F2848240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767D-51F2-4353-8913-4AE7D3D6F3E2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0650-9D7B-4879-BE48-E437639AD89E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opt.info/south.html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opt.info/astr/bigmap.html" TargetMode="External"/><Relationship Id="rId2" Type="http://schemas.openxmlformats.org/officeDocument/2006/relationships/hyperlink" Target="http://www.oopt.info/astr/bigmap.html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a3d7a"/>
                </a:solidFill>
                <a:latin typeface="Times New Roman"/>
              </a:rPr>
              <a:t>Заповедники</a:t>
            </a: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2a3d7a"/>
                </a:solidFill>
                <a:latin typeface="Times New Roman"/>
              </a:rPr>
              <a:t>России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b5249"/>
                </a:solidFill>
                <a:latin typeface="Times New Roman"/>
              </a:rPr>
              <a:t>Астраханский заповедник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5" descr="перейти на карту ООПТ округ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4572000"/>
            <a:ext cx="2895480" cy="1677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2989440" y="22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8" descr="Эмблема Астраханского заповедника"/>
          <p:cNvPicPr/>
          <p:nvPr/>
        </p:nvPicPr>
        <p:blipFill>
          <a:blip r:embed="rId3"/>
          <a:stretch/>
        </p:blipFill>
        <p:spPr>
          <a:xfrm>
            <a:off x="1447920" y="4114800"/>
            <a:ext cx="2286000" cy="229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Rectangle 31"/>
          <p:cNvSpPr/>
          <p:nvPr/>
        </p:nvSpPr>
        <p:spPr>
          <a:xfrm>
            <a:off x="533520" y="685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 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В Астраханском заповеднике зарегистрировано 256 видов птиц, из них 97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видов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на гнездовье, 134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вида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- в период миграции и зимовки и 25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видов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- при залетах.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27 видов занесены в Красную книгу Росс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Picture 34" descr="x1"/>
          <p:cNvPicPr/>
          <p:nvPr/>
        </p:nvPicPr>
        <p:blipFill>
          <a:blip r:embed="rId1"/>
          <a:stretch/>
        </p:blipFill>
        <p:spPr>
          <a:xfrm>
            <a:off x="533520" y="2057400"/>
            <a:ext cx="4068720" cy="4343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6" descr="x7"/>
          <p:cNvPicPr/>
          <p:nvPr/>
        </p:nvPicPr>
        <p:blipFill>
          <a:blip r:embed="rId2"/>
          <a:stretch/>
        </p:blipFill>
        <p:spPr>
          <a:xfrm>
            <a:off x="5105520" y="2057400"/>
            <a:ext cx="3809880" cy="213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7" descr="Посмотреть"/>
          <p:cNvPicPr/>
          <p:nvPr/>
        </p:nvPicPr>
        <p:blipFill>
          <a:blip r:embed="rId3"/>
          <a:stretch/>
        </p:blipFill>
        <p:spPr>
          <a:xfrm>
            <a:off x="5715000" y="4267080"/>
            <a:ext cx="2590920" cy="227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5b5249"/>
                </a:solidFill>
                <a:latin typeface="Arial Black"/>
              </a:rPr>
              <a:t>5    видов    рептилий,   в том числе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обитает редкая болотная черепаха.</a:t>
            </a:r>
            <a:br>
              <a:rPr sz="2000"/>
            </a:b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9" name="Picture 11" descr="Посмотреть"/>
          <p:cNvPicPr/>
          <p:nvPr/>
        </p:nvPicPr>
        <p:blipFill>
          <a:blip r:embed="rId1"/>
          <a:stretch/>
        </p:blipFill>
        <p:spPr>
          <a:xfrm>
            <a:off x="1295280" y="1905120"/>
            <a:ext cx="7239240" cy="45050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4191120" cy="52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Волго-Каспий - это уникальный рыбохозяйственный бассейн, в котором водятся все представители осетровых, являющихся нашим национальным богатством.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Богат этот край и другими ценными породам рыбы. Всего насчитывается  </a:t>
            </a:r>
            <a:r>
              <a:rPr b="1" lang="ru-RU" sz="2400" spc="-1" strike="noStrike">
                <a:solidFill>
                  <a:srgbClr val="5b5249"/>
                </a:solidFill>
                <a:latin typeface="Arial Black"/>
              </a:rPr>
              <a:t>61  вид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Picture 21" descr="x22"/>
          <p:cNvPicPr/>
          <p:nvPr/>
        </p:nvPicPr>
        <p:blipFill>
          <a:blip r:embed="rId1"/>
          <a:stretch/>
        </p:blipFill>
        <p:spPr>
          <a:xfrm>
            <a:off x="4191120" y="914400"/>
            <a:ext cx="4724280" cy="556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Географическое положени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00600" y="20574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ведник расположен  в низовьях дельты Волги, на территории Камызякского и Володарского районов Астраханской области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 заповедника составля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7 917 га, в том числе 11 298 га - морская акватория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3108240" y="2073240"/>
            <a:ext cx="2927520" cy="2836800"/>
            <a:chOff x="3108240" y="2073240"/>
            <a:chExt cx="2927520" cy="2836800"/>
          </a:xfrm>
        </p:grpSpPr>
        <p:sp>
          <p:nvSpPr>
            <p:cNvPr id="99" name="Rectangle 5"/>
            <p:cNvSpPr/>
            <p:nvPr/>
          </p:nvSpPr>
          <p:spPr>
            <a:xfrm>
              <a:off x="3108240" y="2073240"/>
              <a:ext cx="2108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3108240" y="2073240"/>
              <a:ext cx="292752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b0ae6a"/>
                  </a:solidFill>
                  <a:uFillTx/>
                  <a:latin typeface="Arial"/>
                  <a:hlinkClick r:id="rId1"/>
                </a:rPr>
                <a:t>  </a:t>
              </a:r>
              <a:r>
                <a:rPr b="0" lang="en-US" sz="16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01" name="Picture 9" descr="увеличить карту ООПТ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057400"/>
            <a:ext cx="4190760" cy="404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стория создания заповед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43040" y="175212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ервый советский заповедник — Астраханский — был учрежден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1 апреля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919 г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шением общественной Ученой Комиссии при Астраханском университете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ри личном участии Владимира Ильича Ленина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За большую научную и природоохранительную работу в марте 1969 г. Астраханскому заповеднику присвоено имя В.И. Ленина.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В январе 1971 г. за успехи, достигнутые в работе по изучению и сохранению природного комплекса дельты Волги, заповедник награжден орденом Трудового Красного Знамени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7" descr="240x161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Цель создания заповед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0360" y="1268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рода дельты Волги была глубоко нарушена в результате роста населения, освоения новых земель и безудержной хищнической эксплуатации многих природных богатств. Увеличение числа хуторов и выпас скота в местах их расположения привели к резкой деградации растительного покрова. Местами даже появились голые пески. Но особенно пострадали животные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хранение и накопление природных ресурсов и генетических фондов устья Волги и побережья Каспия, а также исследование динамики дельтообразования и жизни ее ценозов в целях освоения природных производительных сил дельты и охраны мест гнездования и перелета водоплавающей птицы, рыбных перестилищ, рыбных ям, а также редких растений - лотоса, чилима и друг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7" name="Picture 7" descr="150x163"/>
          <p:cNvPicPr/>
          <p:nvPr/>
        </p:nvPicPr>
        <p:blipFill>
          <a:blip r:embed="rId1"/>
          <a:stretch/>
        </p:blipFill>
        <p:spPr>
          <a:xfrm>
            <a:off x="685800" y="1447920"/>
            <a:ext cx="210168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Посмотреть"/>
          <p:cNvPicPr/>
          <p:nvPr/>
        </p:nvPicPr>
        <p:blipFill>
          <a:blip r:embed="rId2"/>
          <a:stretch/>
        </p:blipFill>
        <p:spPr>
          <a:xfrm>
            <a:off x="1371600" y="4038480"/>
            <a:ext cx="3124080" cy="21765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0"/>
          <p:cNvSpPr txBox="1"/>
          <p:nvPr/>
        </p:nvSpPr>
        <p:spPr>
          <a:xfrm>
            <a:off x="1979640" y="6308640"/>
            <a:ext cx="12193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ото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826920" y="1557360"/>
            <a:ext cx="10288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рел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стительный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мир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Arial"/>
              </a:rPr>
              <a:t>Сотни рукавов великой русской реки Волги несут свои воды в Каспийское море. С высоты птичьего полета волжская дельта выглядит как царство островов, больших и малых, покрытых зеленью трав и кустарников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12" descr="x11"/>
          <p:cNvPicPr/>
          <p:nvPr/>
        </p:nvPicPr>
        <p:blipFill>
          <a:blip r:embed="rId1"/>
          <a:stretch/>
        </p:blipFill>
        <p:spPr>
          <a:xfrm>
            <a:off x="762120" y="1600200"/>
            <a:ext cx="3962160" cy="48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028840" y="152352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Arial"/>
              </a:rPr>
              <a:t>Растительность островов своеобразна: галерейные леса из белой ивы над бесчисленными протоками, сплошные заросли тростника высотой до 6 м создают непроходимую стену, скрывающую от любопытных глаз своих обитателей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5" name="Picture 5" descr="x12"/>
          <p:cNvPicPr/>
          <p:nvPr/>
        </p:nvPicPr>
        <p:blipFill>
          <a:blip r:embed="rId1"/>
          <a:stretch/>
        </p:blipFill>
        <p:spPr>
          <a:xfrm>
            <a:off x="838080" y="14479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Arial Black"/>
              </a:rPr>
              <a:t>В составе флоры 293 вида растений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4190760" cy="3017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8" descr="x15"/>
          <p:cNvPicPr/>
          <p:nvPr/>
        </p:nvPicPr>
        <p:blipFill>
          <a:blip r:embed="rId2"/>
          <a:stretch/>
        </p:blipFill>
        <p:spPr>
          <a:xfrm>
            <a:off x="5181480" y="243828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13"/>
          <p:cNvSpPr txBox="1"/>
          <p:nvPr/>
        </p:nvSpPr>
        <p:spPr>
          <a:xfrm>
            <a:off x="3124080" y="5715000"/>
            <a:ext cx="33530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569de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лотос розовый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569de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a3d7a"/>
                </a:solidFill>
                <a:latin typeface="Times New Roman"/>
              </a:rPr>
              <a:t>астраханские тюльпаны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13" descr="Посмотреть"/>
          <p:cNvPicPr/>
          <p:nvPr/>
        </p:nvPicPr>
        <p:blipFill>
          <a:blip r:embed="rId1"/>
          <a:stretch/>
        </p:blipFill>
        <p:spPr>
          <a:xfrm>
            <a:off x="1523880" y="1447920"/>
            <a:ext cx="5562720" cy="49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600" y="761760"/>
            <a:ext cx="5410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Животный мир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b5249"/>
                </a:solidFill>
                <a:latin typeface="Arial Black"/>
              </a:rPr>
              <a:t>         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В заповеднике обитают обитают 27 видов млекопитающих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-1447920" y="5105520"/>
            <a:ext cx="803520" cy="26820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2239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-1440" y="3346560"/>
            <a:ext cx="80316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22392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8" name="Group 11"/>
          <p:cNvGrpSpPr/>
          <p:nvPr/>
        </p:nvGrpSpPr>
        <p:grpSpPr>
          <a:xfrm>
            <a:off x="-3240" y="609480"/>
            <a:ext cx="9147240" cy="206280"/>
            <a:chOff x="-3240" y="609480"/>
            <a:chExt cx="9147240" cy="206280"/>
          </a:xfrm>
        </p:grpSpPr>
        <p:sp>
          <p:nvSpPr>
            <p:cNvPr id="129" name="Rectangle 5"/>
            <p:cNvSpPr/>
            <p:nvPr/>
          </p:nvSpPr>
          <p:spPr>
            <a:xfrm>
              <a:off x="58680" y="653760"/>
              <a:ext cx="9023400" cy="12528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-3240" y="609480"/>
              <a:ext cx="9147240" cy="206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31" name="Picture 21" descr="Посмотреть"/>
          <p:cNvPicPr/>
          <p:nvPr/>
        </p:nvPicPr>
        <p:blipFill>
          <a:blip r:embed="rId1"/>
          <a:stretch/>
        </p:blipFill>
        <p:spPr>
          <a:xfrm>
            <a:off x="685800" y="2590920"/>
            <a:ext cx="4267080" cy="373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x9"/>
          <p:cNvPicPr/>
          <p:nvPr/>
        </p:nvPicPr>
        <p:blipFill>
          <a:blip r:embed="rId2"/>
          <a:stretch/>
        </p:blipFill>
        <p:spPr>
          <a:xfrm>
            <a:off x="5257800" y="2666880"/>
            <a:ext cx="3476520" cy="36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0:33:51Z</dcterms:created>
  <dc:creator>XXX</dc:creator>
  <dc:description/>
  <dc:language>en-US</dc:language>
  <cp:lastModifiedBy>Учитель</cp:lastModifiedBy>
  <dcterms:modified xsi:type="dcterms:W3CDTF">2013-05-06T16:59:13Z</dcterms:modified>
  <cp:revision>20</cp:revision>
  <dc:subject/>
  <dc:title>Презентация PowerPoint</dc:title>
</cp:coreProperties>
</file>